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85C-29B0-49B7-9EB1-651707A0ED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29B-2981-4EBB-8331-19871D7181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1AE-4986-40C0-8DA4-0E5FB79144D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E4A-96B2-4D78-BBFE-8BFB3400689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E110-F8F1-4893-B69A-E63482B1FB1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C7A8-BA40-44A3-A559-FCE5F908C51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30ED-C4B6-4664-9FB4-858A4473D9F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66E-EE81-479E-BD74-1B055A1F53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EAC-5C5E-4F7A-8A93-05642FDA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FE9-753A-4F33-9147-F6DF393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116-A307-491B-807B-703149DA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BB4-A048-46D0-963C-1068990D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F99A-494C-4039-9535-AA222267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2FDA-0BA4-46C0-A06E-5F24F7E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E57-9317-457A-BE60-C8D20231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9207-C2FC-4FBD-9CAD-0523844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2E2-FAFD-457C-AA1C-25E72A6C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174D-256C-4ECF-8882-DD7160B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D108-4373-451E-A2D3-38D16DD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161-8156-4FC2-9D19-EE96AAC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6A11-1F23-4EF4-9530-99A1698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E9E-5929-4088-981E-AE93B3C3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8A6-D945-4F4D-9D48-210AF2A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94A-530E-417E-82CF-B7D65C0D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132-7818-4307-B3A6-ED4E70A0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B36-4F86-4E4A-A278-C482A27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2AA-B3E9-4F52-861F-75F78569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6EE-5E3D-4778-88A8-1159691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A99-327A-4B80-A3A4-EAF14CF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DD0-495F-4819-987C-5613B0F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FFA-6365-4E3C-886E-90FAE47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64B-6274-4204-853E-F18F38A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A95-B24C-4AD6-80FB-8E04E8590D6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0F7-7343-4420-93C2-DFBC34CDEC8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ES TRASSIERA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PROGRAMA DE CUALIFICACIÓN PROFESIONAL INICIAL</a:t>
            </a:r>
            <a:br>
              <a:rPr sz="4000"/>
            </a:br>
            <a:br>
              <a:rPr sz="4000"/>
            </a:br>
            <a:r>
              <a:rPr b="1" lang="es-ES" sz="3300" spc="-1" strike="noStrike">
                <a:solidFill>
                  <a:srgbClr val="eaeaea"/>
                </a:solidFill>
                <a:latin typeface="Tahoma"/>
              </a:rPr>
              <a:t>Auxiliar de Gestión Administrativa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5734080"/>
            <a:ext cx="760896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rso 2011-12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9" descr="placa_tic"/>
          <p:cNvPicPr/>
          <p:nvPr/>
        </p:nvPicPr>
        <p:blipFill>
          <a:blip r:embed="rId1"/>
          <a:stretch/>
        </p:blipFill>
        <p:spPr>
          <a:xfrm>
            <a:off x="5580000" y="55897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placa_dig"/>
          <p:cNvPicPr/>
          <p:nvPr/>
        </p:nvPicPr>
        <p:blipFill>
          <a:blip r:embed="rId2"/>
          <a:stretch/>
        </p:blipFill>
        <p:spPr>
          <a:xfrm>
            <a:off x="7308720" y="55897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logo25"/>
          <p:cNvPicPr/>
          <p:nvPr/>
        </p:nvPicPr>
        <p:blipFill>
          <a:blip r:embed="rId3"/>
          <a:stretch/>
        </p:blipFill>
        <p:spPr>
          <a:xfrm>
            <a:off x="1476360" y="404640"/>
            <a:ext cx="11095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900000" y="-90360"/>
            <a:ext cx="7920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CPI que se va a impartir en el IES Trassierra pertenece a la familia profesional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y va a capacitar a nuestro  alumnado para obtener la correspondiente  certificación que le permita , si así lo desea, incorporarse al mundo laboral  com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66ff33"/>
                </a:solidFill>
                <a:uFillTx/>
                <a:latin typeface="Tahoma"/>
              </a:rPr>
              <a:t>AUXILIAR DE GESTIÓN ADMINISTRATIV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grama está organizado en 2 cursos académicos, siendo el primero obligatorio y el segundo voluntar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Profesorado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7543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tra Barrios Rold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arte los Módulo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la tut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osé Antonio Segura Cór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arte los Módulos Específ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umnad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8172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han matriculado 12 alumnos, de los cuales todos mantienen una buena asistencia ( 7 chicas y 5 chic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ceden de diversos centros  de Córdob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    IES Trassier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Medina Azah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López Ney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Zo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Las Viñas (Mori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    IES Villaru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Teresia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Colonial (Fuente Palm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xpectativas en relación con estos estudio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22050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Tahoma"/>
              </a:rPr>
              <a:t>Todos pretenden obtener el Título de Graduado en E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intereses profesionales son diversos, y la mayoría ha elegido este PCPI por ser la opción más favor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 INICIAL</a:t>
            </a:r>
            <a:br>
              <a:rPr sz="4400"/>
            </a:b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Pruebas realiza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5376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istro individual de Tuto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est Psicológico BadyG M (Mide las actitudes gener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ueba inicial de Lengua y de Mate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estionario de autoevaluación de la autoes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toevaluación de las condiciones para el e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 INICIAL Resultad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ivel académico heterogéneo, por debajo de la media de su 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presentan graves deficiencias en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umnos que destacan en algunas materias, necesitan más apoyo en otras y vice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general las materias “menos preferidas” son Matemáticas, Lengua, Sociales e idi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lta de destrezas relacionadas con la expresión oral y esc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87280" y="1916280"/>
            <a:ext cx="7561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ienen, en general, un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bajo nivel de auto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án convencidos de que no “sirven para estudi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onocen que no “están a la altura” de lo que sus padres esperan de el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án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desmotivados respecto al e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 nivel emoc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n realidad, reconocen que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n tenido malas experien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“saben estudi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dedican tiem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istraen con fac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s angustian los exám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ienen lagunas que dificultan su progr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resumen, </a:t>
            </a: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NO ESTÁN MOTIV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Objetivos genera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mpliar las competencias básicas del alumnado para proseguir estudios en las diferentes enseñanz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mitir que el alumnado alcance competencias profes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tar al alumnado de posibilidades reales para una inserción sociolaboral satisfac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ctividades a realizar para alcanzar estos objetivo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ecesarias para adquirir los contenidos  académicos neces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o de la comprensión y expresión tanto oral como escr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cnicas de trabajo intelec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grama de desarrollo de habilidade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propias del perfil profesional ele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es complementarias: talleres, visitas, excursione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Finalidad de los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grama de Cualificación Profesional Inicial tiene como objeto ofrecer a los alumnos/as una vía alternativa que les permita 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obtener el título de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ahoma"/>
              </a:rPr>
              <a:t>Graduado en Educación Secundaría Obligatori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, al mismo tiempo, </a:t>
            </a:r>
            <a:r>
              <a:rPr b="1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conseguir una cualificación profesional bási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que facilite su acceso al mundo laboral, sin prolongar la escolarización más allá de los dieciocho año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Metodología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8077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a. Adquirir los conocimientos mediante la acción.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“APRENDER HACIEN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autónomo y en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tención individualizada, en función  de las necesidades individ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so de las Nuevas 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ácticas dia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programarán actividades que potencien las destrezas lingüísticas, el razonamiento lógico, la reflexión individual y grupal y la resolución de situaciones problemát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67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i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realizarán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res evalu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necesari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probar las prác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ara obtener el Certificado correspond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se aprueban los módulos generales queda exento de una parte de la Prueba de Acceso a los Ciclos Formativos de Grado Me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que aprobar todos los módulos obligatorios para realizar los voluntarios y optar al Título de Graduado en 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 se puede repeti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salvo autorización de la inspe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Instrumentos de evaluación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ación del trabajo diario en clase y participación activa y responsable en las actividades programadas (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derno de trabajo y actividades TIC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oles y pruebas objetivas (5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sistencia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tud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Nuestro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3 Marcador de contenido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527280"/>
          </a:xfrm>
          <a:prstGeom prst="rect">
            <a:avLst/>
          </a:prstGeom>
          <a:ln w="0">
            <a:noFill/>
          </a:ln>
        </p:spPr>
      </p:pic>
      <p:pic>
        <p:nvPicPr>
          <p:cNvPr id="168" name="11 Marcador de contenido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482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Gracias por su atenció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753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RUCTURA DEL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dos cur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º 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OBLIG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ESPECÍF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FORMACIÓN EN CENTROS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2º 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VOLU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Organización del 1º curs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ódulos Obligator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mación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 Emprend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ción y ciudadan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vas 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s espec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s Profesion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 d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Formación en centr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 trabaj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(Práct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Módulos Específicos</a:t>
            </a: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Tahoma"/>
              </a:rPr>
              <a:t>(532 horas)</a:t>
            </a:r>
            <a:br>
              <a:rPr sz="2400"/>
            </a:b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(Resolución de 1 de septiembre de 2008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cnicas administrativas básica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20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laboración de documentación administrativa y comercial básica (pedidos, albaranes, facturas, recibos, nóminas sencillas, cheques, control de existencias, etc.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unicación y atención al cliente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44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canografía, procesador de textos, cumplimentación de documentos de comunicación, expresarse correctamente de forma oral y escrita, atención telefónica y telemática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 y archivo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68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stema operativo (carpetas,archivos), bases de datos, reproducir y encuadernar documentos, correspondencia, paquetería, archivo convencional, etc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mación en centro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ner en práctica todo lo aprendido durante el cur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ínimo: 100 hor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 finalizar este primer curso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26920" y="2138760"/>
            <a:ext cx="80661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/as alumnos/as que SUPEREN estos módulos obtendrán una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ahoma"/>
              </a:rPr>
              <a:t>certificación académ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 acreditará las competencias profesionales y quedará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exentos de parte de la Prueba de Acceso a Ciclos Formativos de Grado Medi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2º curso académic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ódulos Voluntarios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de comunicación (10 horas/semana)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social (14 horas/semana)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científico-tecnológico  (14 horas/seman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utoría (1 hora/semana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 finalizar el 2º curs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alumnos y alumnas  que SUPEREN los módulos obligatorios y los módulos voluntarios obtendrán el </a:t>
            </a:r>
            <a:r>
              <a:rPr b="0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Título de Graduado en Educación Secundaria Obligatoria. </a:t>
            </a:r>
            <a:br>
              <a:rPr sz="3200"/>
            </a:br>
            <a:r>
              <a:rPr b="0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pcpi"/>
          <p:cNvPicPr/>
          <p:nvPr/>
        </p:nvPicPr>
        <p:blipFill>
          <a:blip r:embed="rId1"/>
          <a:stretch/>
        </p:blipFill>
        <p:spPr>
          <a:xfrm>
            <a:off x="971640" y="549360"/>
            <a:ext cx="770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0:41:42Z</dcterms:created>
  <dc:creator>usuario</dc:creator>
  <dc:description/>
  <dc:language>en-US</dc:language>
  <cp:lastModifiedBy>TRASSIERRA</cp:lastModifiedBy>
  <dcterms:modified xsi:type="dcterms:W3CDTF">2012-02-08T09:46:18Z</dcterms:modified>
  <cp:revision>36</cp:revision>
  <dc:subject/>
  <dc:title>   IES TRASSIERA  PROGRAMA DE CUALIFICACIÓN PROFESIONAL INIC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